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5.png" ContentType="image/png"/>
  <Override PartName="/ppt/media/image4.png" ContentType="image/png"/>
  <Override PartName="/ppt/media/image27.png" ContentType="image/png"/>
  <Override PartName="/ppt/media/image5.jpeg" ContentType="image/jpeg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8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gif" ContentType="image/gif"/>
  <Override PartName="/ppt/media/image22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media/image2.jpeg" ContentType="image/jpe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7159-EEA2-4DEE-B2BF-9C27EFAD0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Windows management, if the user is having a problem with too many Windows open too often, Preferences may be set 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store List Wind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From(“WH”) could also be us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monstrate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hift-Dra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cop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Source-based map.  The source is EDI; the target is XM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elope/De-envelope  process is assumed for EDI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ft and drag to copy rather than move a command within the command p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apping elements always drag element icon (with pencil) to element ic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3EFCA-3D1E-4D48-AF8B-78593188A3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459CB-F10B-49BB-9257-B42AE124E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815C6-EF7B-4008-89AC-04D9CC295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6B1D-0683-4D2B-BD47-EE918A60D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ACCE6-E2C8-4F2C-9F99-278713A939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1027B-A91F-4584-934A-1C1B59945E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3D02-12EF-4471-8511-B475C40AD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E694D-0D34-4557-830A-BF92FEE99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7253D-4055-4F9D-A157-7B8FCB5F47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EB028-73AC-4C34-ABEC-65BD16A6F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21487-16BB-4EE6-8412-5C7186D8C1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59F68-DABE-4199-BA0D-42ED6C116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59263-7119-41D6-B229-524B14B302A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97960" y="6148440"/>
            <a:ext cx="809640" cy="7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0960" bIns="3096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Data Transformation Mapping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Tips, Tricks, and Techniques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200400"/>
            <a:ext cx="558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Transformation M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ro, Hints, Tips, and Techniq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41880" y="4114800"/>
            <a:ext cx="231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ury Griffith  -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LOGO3X2%20trans" descr=""/>
          <p:cNvPicPr/>
          <p:nvPr/>
        </p:nvPicPr>
        <p:blipFill>
          <a:blip r:embed="rId1"/>
          <a:stretch/>
        </p:blipFill>
        <p:spPr>
          <a:xfrm>
            <a:off x="6705720" y="4059360"/>
            <a:ext cx="1923840" cy="5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e Map Open from Multiple System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838080" y="990720"/>
          <a:ext cx="7315200" cy="51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51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600200"/>
            <a:ext cx="7238880" cy="4114800"/>
          </a:xfrm>
          <a:prstGeom prst="rect">
            <a:avLst/>
          </a:prstGeom>
          <a:solidFill>
            <a:srgbClr val="cc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indows / Pane Manag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9560" y="243828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the pa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9880" y="1628640"/>
            <a:ext cx="0" cy="4038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61920" y="4038480"/>
            <a:ext cx="7162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30920" y="289548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and without hesit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4800" y="44956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commod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6400" y="48006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urrent activit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Source/Target 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6080" y="0"/>
          <a:ext cx="90536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0"/>
                    <a:ext cx="905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"/>
          <p:cNvSpPr/>
          <p:nvPr/>
        </p:nvSpPr>
        <p:spPr>
          <a:xfrm>
            <a:off x="491760" y="1371600"/>
            <a:ext cx="3439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66640" y="1355760"/>
            <a:ext cx="3268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288040" y="602136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43000" y="2514600"/>
            <a:ext cx="6721560" cy="253116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doing a lot of drag and drop mapping, you may wish to maximize the size of your Source and Target panes and minimize your Command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743480" y="5823000"/>
            <a:ext cx="25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460080" y="1324080"/>
            <a:ext cx="7840080" cy="5262840"/>
            <a:chOff x="460080" y="1324080"/>
            <a:chExt cx="7840080" cy="5262840"/>
          </a:xfrm>
        </p:grpSpPr>
        <p:sp>
          <p:nvSpPr>
            <p:cNvPr id="222" name=""/>
            <p:cNvSpPr/>
            <p:nvPr/>
          </p:nvSpPr>
          <p:spPr>
            <a:xfrm>
              <a:off x="460080" y="1339920"/>
              <a:ext cx="343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31720" y="1324080"/>
              <a:ext cx="3268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6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259600" y="6005520"/>
              <a:ext cx="2440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715040" y="5791320"/>
              <a:ext cx="2599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ximize Command Pan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0" y="0"/>
          <a:ext cx="9144000" cy="723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23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1025640" y="147960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93960" y="1447920"/>
            <a:ext cx="234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UR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66720" y="147960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31800" y="1447920"/>
            <a:ext cx="223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TARGE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7390080" y="453348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6200000">
            <a:off x="7374240" y="4561920"/>
            <a:ext cx="244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2120" y="3882960"/>
            <a:ext cx="6949800" cy="2043720"/>
          </a:xfrm>
          <a:prstGeom prst="rect">
            <a:avLst/>
          </a:prstGeom>
          <a:solidFill>
            <a:srgbClr val="ccff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creating a lot of logic, you may wish to maximize the size of your Command pane and minimize the Source, Target, and Variables pan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02200" y="254484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3760" y="2513160"/>
            <a:ext cx="56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Arial"/>
              </a:rPr>
              <a:t>COMMAND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ips, Tricks, Techniqu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12400" y="1279080"/>
            <a:ext cx="734868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ing an Assignmen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“This” an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nd Groups / Comment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235-234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 Occur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Source-Target and 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874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2DICT Translation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Quick Assig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quickly produce an assignment statement, drag a variable to the element or field being mapp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source based map, this will produce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 = \path-for-current-element\\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a target based map this will produce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h-for-current-element\\ = 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replace the variable with the path or value to be mapped (drag or type ov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4800600"/>
            <a:ext cx="76960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4124160"/>
            <a:ext cx="7696080" cy="38124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his”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eyword 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provides a reference to the current element or field being mapp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999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may be used instead of the longer path reference to an el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br>
              <a:rPr sz="24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\Table 2\10 M PO1 Loop\10 M PO1\5 O 639\\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replaced with: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= “WH”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when the mapping is within element 63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/Comment Grou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90720" y="152352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series of commands or comments are related, they may be placed in a “Group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escription may be used to identify the group of commands or comments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45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roup may then be copied or moved as an ent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ample Completed</a:t>
            </a:r>
            <a:br>
              <a:rPr sz="2800"/>
            </a:b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and Grou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0" y="1960560"/>
          <a:ext cx="9144000" cy="34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60560"/>
                    <a:ext cx="9144000" cy="34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apping 235-234 Pai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Send/Receive maps, “&amp;SAMEAS” could be used to map subsequent pairs of 235-234 el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AS is not available fo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Transformation m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T maps, the mapping commands may be copied, but the paths need to be modified for each cop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spcBef>
                <a:spcPts val="250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 better wa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10880" y="545760"/>
            <a:ext cx="67914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Objectiv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2400" y="1404720"/>
            <a:ext cx="7348680" cy="44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major differences betwee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 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all the options for dragging data in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lors to identify Systems (databa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mapping windows and p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Bef>
                <a:spcPts val="1950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 various tricks and techniques to improve mapp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Typical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447920"/>
          <a:ext cx="8545680" cy="24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1447920"/>
                    <a:ext cx="8545680" cy="24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441360" y="4154400"/>
            <a:ext cx="824544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the mapping is done within element 234.  The command group can be copied for each of the remaining 235-234 pairs, but all of the element paths will need to be modified for each set of 235-234 pai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implified 235-234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4419720"/>
            <a:ext cx="8686800" cy="1557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e map element 235 to a variable and 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234 mappings to reference element 234.  We now need the “Qual=This” for each 235, but the 234 command group can be copied for each succeeding 235-234 pai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without modif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380880" y="1155600"/>
          <a:ext cx="708660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55600"/>
                    <a:ext cx="708660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ose Occurre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228600" y="3929040"/>
          <a:ext cx="845820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929040"/>
                    <a:ext cx="84582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apping separately defined elements or fields in the source document to a repeating element in the target document, the repeating element must be “closed” to cause a new occurrence to be produced rather than overlaying the existing 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819520" y="5457960"/>
            <a:ext cx="2743200" cy="457200"/>
          </a:xfrm>
          <a:prstGeom prst="rect">
            <a:avLst/>
          </a:prstGeom>
          <a:solidFill>
            <a:srgbClr val="ffff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ource-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2400" y="1143000"/>
            <a:ext cx="7348680" cy="26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ne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emp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trieve data from your targe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ore data into your 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From(Targ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apTo(Source or 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993960" y="4191120"/>
            <a:ext cx="2381040" cy="735120"/>
            <a:chOff x="993960" y="4191120"/>
            <a:chExt cx="2381040" cy="735120"/>
          </a:xfrm>
        </p:grpSpPr>
        <p:sp>
          <p:nvSpPr>
            <p:cNvPr id="271" name=""/>
            <p:cNvSpPr/>
            <p:nvPr/>
          </p:nvSpPr>
          <p:spPr>
            <a:xfrm>
              <a:off x="1025640" y="422280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993960" y="419112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4421880" y="4191120"/>
            <a:ext cx="2271600" cy="735120"/>
            <a:chOff x="4421880" y="4191120"/>
            <a:chExt cx="2271600" cy="735120"/>
          </a:xfrm>
        </p:grpSpPr>
        <p:sp>
          <p:nvSpPr>
            <p:cNvPr id="274" name=""/>
            <p:cNvSpPr/>
            <p:nvPr/>
          </p:nvSpPr>
          <p:spPr>
            <a:xfrm>
              <a:off x="4456800" y="4222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21880" y="419112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888640" y="5438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= expre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8800200">
            <a:off x="3198600" y="4788000"/>
            <a:ext cx="1371600" cy="39528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98640 h 395280"/>
              <a:gd name="textAreaBottom" fmla="*/ 296640 h 3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rot="12799800">
            <a:off x="3307320" y="4786560"/>
            <a:ext cx="1600200" cy="394920"/>
          </a:xfrm>
          <a:custGeom>
            <a:avLst/>
            <a:gdLst>
              <a:gd name="textAreaLeft" fmla="*/ 249480 w 1600200"/>
              <a:gd name="textAreaRight" fmla="*/ 1400040 w 1600200"/>
              <a:gd name="textAreaTop" fmla="*/ 98640 h 394920"/>
              <a:gd name="textAreaBottom" fmla="*/ 296280 h 39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SmileyFlipping" descr=""/>
          <p:cNvPicPr/>
          <p:nvPr/>
        </p:nvPicPr>
        <p:blipFill>
          <a:blip r:embed="rId1"/>
          <a:stretch/>
        </p:blipFill>
        <p:spPr>
          <a:xfrm>
            <a:off x="7315200" y="4543560"/>
            <a:ext cx="628560" cy="639720"/>
          </a:xfrm>
          <a:prstGeom prst="rect">
            <a:avLst/>
          </a:prstGeom>
          <a:ln w="0">
            <a:noFill/>
          </a:ln>
        </p:spPr>
      </p:pic>
      <p:pic>
        <p:nvPicPr>
          <p:cNvPr id="280" name="red_md_wht" descr=""/>
          <p:cNvPicPr/>
          <p:nvPr/>
        </p:nvPicPr>
        <p:blipFill>
          <a:blip r:embed="rId2"/>
          <a:stretch/>
        </p:blipFill>
        <p:spPr>
          <a:xfrm>
            <a:off x="7010280" y="1676520"/>
            <a:ext cx="1225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using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mp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, be aware that “empty” does not mean containing blanks or zero.  Empty means a null value with a length of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39481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o determine if a fixed-length field is blank -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85800" y="375300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" y="4819680"/>
            <a:ext cx="7696080" cy="609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8080" y="3843360"/>
            <a:ext cx="754380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StrComp(\ITEMS\UPC-CODE,‘                   ’) NE 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990720" y="4286160"/>
            <a:ext cx="1523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 or -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8080" y="4876920"/>
            <a:ext cx="7696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!IsEmpty(TrimLeft(\ITEMS\UPC-CODE)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" name=""/>
          <p:cNvGraphicFramePr/>
          <p:nvPr/>
        </p:nvGraphicFramePr>
        <p:xfrm>
          <a:off x="1066680" y="1523880"/>
          <a:ext cx="678024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678024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1" name=""/>
          <p:cNvGrpSpPr/>
          <p:nvPr/>
        </p:nvGrpSpPr>
        <p:grpSpPr>
          <a:xfrm>
            <a:off x="292320" y="3429000"/>
            <a:ext cx="2474280" cy="2549520"/>
            <a:chOff x="292320" y="3429000"/>
            <a:chExt cx="2474280" cy="2549520"/>
          </a:xfrm>
        </p:grpSpPr>
        <p:sp>
          <p:nvSpPr>
            <p:cNvPr id="292" name=""/>
            <p:cNvSpPr/>
            <p:nvPr/>
          </p:nvSpPr>
          <p:spPr>
            <a:xfrm rot="5400000">
              <a:off x="685440" y="3885840"/>
              <a:ext cx="1676160" cy="762120"/>
            </a:xfrm>
            <a:custGeom>
              <a:avLst/>
              <a:gdLst>
                <a:gd name="textAreaLeft" fmla="*/ 209520 w 1676160"/>
                <a:gd name="textAreaRight" fmla="*/ 1466640 w 1676160"/>
                <a:gd name="textAreaTop" fmla="*/ 190440 h 762120"/>
                <a:gd name="textAreaBottom" fmla="*/ 57168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gradFill rotWithShape="0">
              <a:gsLst>
                <a:gs pos="0">
                  <a:srgbClr val="339966"/>
                </a:gs>
                <a:gs pos="50000">
                  <a:srgbClr val="17462f"/>
                </a:gs>
                <a:gs pos="100000">
                  <a:srgbClr val="33996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92320" y="5154480"/>
              <a:ext cx="2474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ELP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or mapping command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nd function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"/>
          <p:cNvSpPr/>
          <p:nvPr/>
        </p:nvSpPr>
        <p:spPr>
          <a:xfrm>
            <a:off x="2529000" y="22575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514600" y="2438280"/>
            <a:ext cx="152280" cy="1905120"/>
          </a:xfrm>
          <a:prstGeom prst="line">
            <a:avLst/>
          </a:prstGeom>
          <a:ln w="25560">
            <a:solidFill>
              <a:srgbClr val="00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137320" y="4311720"/>
            <a:ext cx="123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ight Click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MappingHelp" descr=""/>
          <p:cNvPicPr/>
          <p:nvPr/>
        </p:nvPicPr>
        <p:blipFill>
          <a:blip r:embed="rId3"/>
          <a:stretch/>
        </p:blipFill>
        <p:spPr>
          <a:xfrm>
            <a:off x="3657600" y="378000"/>
            <a:ext cx="4629240" cy="648000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Hel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EDI2DIC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inbound EDI data, when DICTIONARY is not specified, translation table EDI2DICT is used to determine the EDI dictionary based on the value in GS08 or UNH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762120" y="3914640"/>
          <a:ext cx="7453080" cy="20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14640"/>
                    <a:ext cx="7453080" cy="20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790560" y="3200400"/>
          <a:ext cx="7389720" cy="67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0560" y="3200400"/>
                    <a:ext cx="7389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wrong with this ma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2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3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4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5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6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7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8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9:  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10:  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0">
              <a:lnSpc>
                <a:spcPct val="115000"/>
              </a:lnSpc>
              <a:spcBef>
                <a:spcPts val="4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645920" y="2930040"/>
            <a:ext cx="57452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Field Used as Targe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38088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6040800" y="762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69960" y="32349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a Boolean Valu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 Qualifier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0" y="403200"/>
          <a:ext cx="9144000" cy="607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200"/>
                    <a:ext cx="91440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6021720" y="7081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vs. Send/Receiv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/Receive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 to/from E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ed” command languag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ransformati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” to “Any” trans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natural, intui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751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s may be associated with source or target doc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90720" y="220932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StrComp for String Comparis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Target Element as a Sour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16" name=""/>
          <p:cNvGraphicFramePr/>
          <p:nvPr/>
        </p:nvGraphicFramePr>
        <p:xfrm>
          <a:off x="0" y="380880"/>
          <a:ext cx="9829800" cy="579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829800" cy="57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6174000" y="7761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98560" y="26665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datory Element Not Mapp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762120"/>
          <a:ext cx="91440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2" name=""/>
          <p:cNvSpPr/>
          <p:nvPr/>
        </p:nvSpPr>
        <p:spPr>
          <a:xfrm>
            <a:off x="5945400" y="10666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335232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teral Qualifier Not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0" y="685800"/>
          <a:ext cx="914400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869080" y="99072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8195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ping from Target Ele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0" y="380880"/>
          <a:ext cx="9144000" cy="60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132600" y="74448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71240" y="3580920"/>
            <a:ext cx="60958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keyword not a string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should not be in quot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316080"/>
          <a:ext cx="9144000" cy="602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602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"/>
          <p:cNvSpPr/>
          <p:nvPr/>
        </p:nvSpPr>
        <p:spPr>
          <a:xfrm>
            <a:off x="5813640" y="69696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rce and Target Revers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0" y="380880"/>
          <a:ext cx="9144000" cy="606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6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6021720" y="6858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81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ach is on the PO1 Segment and should be on the PO1 Loop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0" y="380880"/>
          <a:ext cx="9144000" cy="608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80880"/>
                    <a:ext cx="9144000" cy="608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5640480" y="754200"/>
            <a:ext cx="10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327672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Occurrence is Requir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0" y="316080"/>
          <a:ext cx="9144000" cy="585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16080"/>
                    <a:ext cx="9144000" cy="585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945760" y="64296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dience Hints and Tip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15238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2120" y="20574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62120" y="25909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31240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62120" y="36576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2120" y="41911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62120" y="47242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62120" y="525780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579132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end/Receive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91320" y="1447920"/>
            <a:ext cx="2209680" cy="12952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791320" y="3089160"/>
            <a:ext cx="2743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the EDI Standard may be created from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 (Fixed to Fixed Translation -Send only) or it may be produced by converting an XML DTD (DTD Conver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00400" y="152388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3200400" y="2057400"/>
            <a:ext cx="2362320" cy="533520"/>
          </a:xfrm>
          <a:prstGeom prst="rightArrow">
            <a:avLst>
              <a:gd name="adj1" fmla="val 50000"/>
              <a:gd name="adj2" fmla="val 1106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3289320"/>
            <a:ext cx="2743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 - Fixed length fields with record IDs, 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ata Transformation Mapping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00400" y="1676520"/>
            <a:ext cx="2362320" cy="533160"/>
          </a:xfrm>
          <a:prstGeom prst="rightArrow">
            <a:avLst>
              <a:gd name="adj1" fmla="val 50000"/>
              <a:gd name="adj2" fmla="val 11077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FOR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15000" y="2895480"/>
            <a:ext cx="27432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by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I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Forma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w Da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&amp;D Rec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a Separ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1295280"/>
            <a:ext cx="2209680" cy="12956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8c99fc"/>
              </a:gs>
              <a:gs pos="50000">
                <a:srgbClr val="ccecff"/>
              </a:gs>
              <a:gs pos="100000">
                <a:srgbClr val="8c99fc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an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65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68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662040" y="4419720"/>
            <a:ext cx="3222360" cy="735120"/>
            <a:chOff x="662040" y="4419720"/>
            <a:chExt cx="3222360" cy="735120"/>
          </a:xfrm>
        </p:grpSpPr>
        <p:sp>
          <p:nvSpPr>
            <p:cNvPr id="171" name=""/>
            <p:cNvSpPr/>
            <p:nvPr/>
          </p:nvSpPr>
          <p:spPr>
            <a:xfrm>
              <a:off x="690840" y="445140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62040" y="441972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27520" y="4464000"/>
            <a:ext cx="3028680" cy="719280"/>
            <a:chOff x="4727520" y="4464000"/>
            <a:chExt cx="3028680" cy="719280"/>
          </a:xfrm>
        </p:grpSpPr>
        <p:sp>
          <p:nvSpPr>
            <p:cNvPr id="174" name=""/>
            <p:cNvSpPr/>
            <p:nvPr/>
          </p:nvSpPr>
          <p:spPr>
            <a:xfrm>
              <a:off x="4755960" y="447984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27520" y="446400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What A Drag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12400" y="14475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Tar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15000"/>
              </a:lnSpc>
              <a:spcBef>
                <a:spcPts val="225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Pane to Comman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rag Optio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28520" y="166680"/>
          <a:ext cx="8888400" cy="65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66680"/>
                    <a:ext cx="8888400" cy="65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809880" y="2057400"/>
            <a:ext cx="1676520" cy="3049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809160" y="2362320"/>
            <a:ext cx="1676520" cy="30456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rot="16200000">
            <a:off x="1522800" y="3352680"/>
            <a:ext cx="1676520" cy="304920"/>
          </a:xfrm>
          <a:custGeom>
            <a:avLst/>
            <a:gdLst>
              <a:gd name="textAreaLeft" fmla="*/ 261360 w 1676520"/>
              <a:gd name="textAreaRight" fmla="*/ 1466640 w 16765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505320" y="4495680"/>
            <a:ext cx="1676160" cy="304920"/>
          </a:xfrm>
          <a:custGeom>
            <a:avLst/>
            <a:gdLst>
              <a:gd name="textAreaLeft" fmla="*/ 262080 w 1676160"/>
              <a:gd name="textAreaRight" fmla="*/ 1467000 w 16761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 rot="19593000">
            <a:off x="3087360" y="3487320"/>
            <a:ext cx="2525760" cy="325440"/>
          </a:xfrm>
          <a:custGeom>
            <a:avLst/>
            <a:gdLst>
              <a:gd name="textAreaLeft" fmla="*/ 394920 w 2525760"/>
              <a:gd name="textAreaRight" fmla="*/ 2210400 w 2525760"/>
              <a:gd name="textAreaTop" fmla="*/ 81360 h 325440"/>
              <a:gd name="textAreaBottom" fmla="*/ 244080 h 325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 rot="16200000">
            <a:off x="2018160" y="5219640"/>
            <a:ext cx="762120" cy="381240"/>
          </a:xfrm>
          <a:custGeom>
            <a:avLst/>
            <a:gdLst>
              <a:gd name="textAreaLeft" fmla="*/ 118800 w 762120"/>
              <a:gd name="textAreaRight" fmla="*/ 667080 w 7621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419120" y="1933560"/>
            <a:ext cx="2381400" cy="735120"/>
            <a:chOff x="1419120" y="1933560"/>
            <a:chExt cx="2381400" cy="735120"/>
          </a:xfrm>
        </p:grpSpPr>
        <p:sp>
          <p:nvSpPr>
            <p:cNvPr id="188" name=""/>
            <p:cNvSpPr/>
            <p:nvPr/>
          </p:nvSpPr>
          <p:spPr>
            <a:xfrm>
              <a:off x="1451160" y="196524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419120" y="1933560"/>
              <a:ext cx="2349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SOURCE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5383800" y="1936800"/>
            <a:ext cx="2271960" cy="735120"/>
            <a:chOff x="5383800" y="1936800"/>
            <a:chExt cx="2271960" cy="735120"/>
          </a:xfrm>
        </p:grpSpPr>
        <p:sp>
          <p:nvSpPr>
            <p:cNvPr id="191" name=""/>
            <p:cNvSpPr/>
            <p:nvPr/>
          </p:nvSpPr>
          <p:spPr>
            <a:xfrm>
              <a:off x="5419080" y="196848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383800" y="1936800"/>
              <a:ext cx="2236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TARGET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85560" y="4267080"/>
            <a:ext cx="3222360" cy="735120"/>
            <a:chOff x="385560" y="4267080"/>
            <a:chExt cx="3222360" cy="735120"/>
          </a:xfrm>
        </p:grpSpPr>
        <p:sp>
          <p:nvSpPr>
            <p:cNvPr id="194" name=""/>
            <p:cNvSpPr/>
            <p:nvPr/>
          </p:nvSpPr>
          <p:spPr>
            <a:xfrm>
              <a:off x="414360" y="429876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5560" y="4267080"/>
              <a:ext cx="3193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COMMAND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5046480" y="4267080"/>
            <a:ext cx="3028680" cy="719280"/>
            <a:chOff x="5046480" y="4267080"/>
            <a:chExt cx="3028680" cy="719280"/>
          </a:xfrm>
        </p:grpSpPr>
        <p:sp>
          <p:nvSpPr>
            <p:cNvPr id="197" name=""/>
            <p:cNvSpPr/>
            <p:nvPr/>
          </p:nvSpPr>
          <p:spPr>
            <a:xfrm>
              <a:off x="5074920" y="428292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46480" y="4267080"/>
              <a:ext cx="3000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Arial"/>
                </a:rPr>
                <a:t>VARIABLES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ystems / Databases / Colo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05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82476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nt: Always select different color backgrounds for your “Systems” (databa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46280" y="2590920"/>
            <a:ext cx="7711920" cy="32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n object is opened, it is opened from the currently selected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ossible to have several copies of the same object open from different databas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meaningful colors, such a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en - Develop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llow - Test / Quality Contro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 -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16:03:31Z</dcterms:created>
  <dc:creator>Maurice E. Griffith</dc:creator>
  <dc:description/>
  <dc:language>en-US</dc:language>
  <cp:lastModifiedBy>Maurice E. Griffith</cp:lastModifiedBy>
  <dcterms:modified xsi:type="dcterms:W3CDTF">2004-06-08T22:11:21Z</dcterms:modified>
  <cp:revision>37</cp:revision>
  <dc:subject/>
  <dc:title>WDI Conference 2004</dc:title>
</cp:coreProperties>
</file>